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E359-6C29-47E3-BDC2-02456473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9358-7F68-47AB-A825-3A1D54B4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E313-981C-43B4-8FF8-DACB88FB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FDF0-D8F6-4DB2-B539-8DB2916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933A-71BA-4DC3-BD39-521AF5A6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295-CB96-4C50-AD23-55CACDD4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44BE-6B36-40DB-AC35-BB68F8D0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2AD-F271-4409-8732-9291C24B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B54-F695-4EC1-BB3D-CB85132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C035-A28F-467D-84B3-CCA0C50E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38E8-2D51-4022-84F4-9597F3A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33DE-886D-49D9-8689-EF9F351F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C605-A059-40DE-9E3E-FB541AA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4FC-7B6D-4126-8B11-F1D81C8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837-2B22-4FA5-88CF-196410B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6D1-BF8A-47FE-8431-185DB031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C8A-C5DF-4AA9-8A79-60467D97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212C-B7E1-456C-ABE4-696B907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ADCE-187A-4F9A-BAED-A6FAD95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EE85-D3B9-4B44-BE98-791AC0C8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D4FA-A01D-413E-AB8D-449F983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C3DA-0482-452D-89AC-C8B449D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88C3-EDDC-43EF-BB77-AB2289F2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4C85-BC66-454F-994A-5C4260F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6DC-0A34-4C65-89E5-0694E04AC634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56D-B3CF-4B44-91A3-D61EC6588C9B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42920" y="1700280"/>
            <a:ext cx="7704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tributul adverbia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tributul adverbial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se exprima</a:t>
            </a:r>
            <a:r>
              <a:rPr b="0" lang="ro-RO" sz="4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prin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e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precedate de obicei de prepozitia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„de”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sau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„din”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ori prin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locutiuni adverbiale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Deodata mitralierele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e sus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au pornit to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Boierii calari au alergat la sania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in fata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Plange rasul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e-asta vara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19640" y="234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88000" y="34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1128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3798720"/>
            <a:ext cx="3059280" cy="305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84328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83528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20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4292640"/>
            <a:ext cx="7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1" lang="ro-RO" sz="5400" spc="-1" strike="noStrike">
                <a:solidFill>
                  <a:srgbClr val="000000"/>
                </a:solidFill>
                <a:latin typeface="Arabic Typesetting"/>
              </a:rPr>
              <a:t>Atributul adverbial</a:t>
            </a:r>
            <a:r>
              <a:rPr b="0" lang="ro-RO" sz="5400" spc="-1" strike="noStrike">
                <a:solidFill>
                  <a:srgbClr val="000000"/>
                </a:solidFill>
                <a:latin typeface="Arabic Typesetting"/>
              </a:rPr>
              <a:t> poate fi exprimat prin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loc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Batrana asculta vorba si galagia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fara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Ma uit la baiat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colo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086440"/>
            <a:ext cx="258120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timp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Asa erau iernile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ltadata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El se descrie prin pozele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tunci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743360"/>
            <a:ext cx="327672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mod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...se auzea suras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alene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al vantului de va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Vazu par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rar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al Monic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35640" y="3508200"/>
            <a:ext cx="334944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 u="sng">
                <a:solidFill>
                  <a:srgbClr val="ff3300"/>
                </a:solidFill>
                <a:uFillTx/>
                <a:latin typeface="Arabic Typesetting"/>
              </a:rPr>
              <a:t>OBSERVAT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Atributul adverb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sta intotdeauna dupa cuvantul determina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este insotit de obicei de prepozitii (cu exceptia atributelor exprimate prin adverb de m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nu se desparte prin virgula de substantivul determi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96280" y="549360"/>
            <a:ext cx="1647720" cy="143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1647720" cy="1438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Acest proiect a fost realizat de eleva clasei a VI-a B  Goldan Andre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3:32:46Z</dcterms:created>
  <dc:creator>Adi</dc:creator>
  <dc:description/>
  <dc:language>en-US</dc:language>
  <cp:lastModifiedBy>Adi</cp:lastModifiedBy>
  <dcterms:modified xsi:type="dcterms:W3CDTF">2011-05-10T06:54:36Z</dcterms:modified>
  <cp:revision>4</cp:revision>
  <dc:subject/>
  <dc:title>Slide 1</dc:title>
</cp:coreProperties>
</file>